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0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3982-8506-4163-843E-9FB06131D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A34F-4A99-4710-9C72-AA6A2A71A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349E-4579-406A-897F-DA4E38E7A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B6AE-4635-4FDA-9F3B-345733CE4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2634-6883-4072-811F-8596D6594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EA4D-3DF1-4F53-AA02-CD680F6FFE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1440-62FF-4AF0-B2CA-42697E7499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E966-BF9A-48FD-9A11-BB86BDD2DA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95E3-6DE5-4051-8E3B-9402F3BD6D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CBCD-8BE5-4193-9BBD-F9D2A953EC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6B51-DA94-482C-9E28-823AF6ABB2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50A8-74F8-4766-AADB-CBCC9F81B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D3E2-2A96-40F1-ADA1-680E645A10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B5EC-C5E4-48CD-9A30-9F56124274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172A-84A8-40AB-8996-49CC5E69F5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9E1C-5DBC-4473-9236-FFAD9EC280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31F3-D4AD-47CE-A449-59EE13F07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4372-66F7-4310-97D2-CB89C0649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4372-83C0-4446-AE6B-672F76611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BAD6-CC3F-4212-8CDE-A5B1E32C9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D528-D73D-4B67-A6C0-CA9BD91DB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C543-F093-4876-A596-7A303536C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D699-A03C-4BDF-8A2F-9690C97D6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5AAD-E3B0-4A05-A60A-C19901433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E7E0-B5D3-44D8-AC65-C5D17E6018C2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E4E2-A954-4278-9AF5-B62E8CFC8538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image" Target="../media/image1.png"/><Relationship Id="rId7" Type="http://schemas.openxmlformats.org/officeDocument/2006/relationships/image" Target="../media/image15.png"/><Relationship Id="rId8" Type="http://schemas.openxmlformats.org/officeDocument/2006/relationships/image" Target="../media/image1.png"/><Relationship Id="rId9" Type="http://schemas.openxmlformats.org/officeDocument/2006/relationships/image" Target="../media/image15.png"/><Relationship Id="rId10" Type="http://schemas.openxmlformats.org/officeDocument/2006/relationships/image" Target="../media/image1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135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 do we get floods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5157720"/>
            <a:ext cx="6147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here did all the water come from?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95480" y="1784520"/>
            <a:ext cx="515304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DA86-E637-4A73-A6A9-AC597DF3E9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769080" cy="4537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57D8-C188-44F3-8E13-27A9555E4A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191280" cy="4124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1DF0-EE51-439D-B6EA-5B3004AA4C0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biggest peacetime rescue in 50 years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476360" y="1370160"/>
            <a:ext cx="619128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2125-A8B3-44D3-B366-34FED1DA69B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256536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No-one died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02920" y="8362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And the best bit …</a:t>
            </a:r>
            <a:endParaRPr b="1" lang="en-US" sz="36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75F6-55CB-43A4-B15C-0F0D7E309C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y did it happen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7640" y="3789000"/>
            <a:ext cx="3887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Surrounding vegetation includes agricultural land with  a bit of woodland.  (So conditions would have been even worse, without these patches of woodland!) 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The rain coincided with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high tide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 in the bay.  This slowed the rate of exit of floodwater into the harbour. 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764640"/>
            <a:ext cx="43876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The three river valleys are very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steep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 and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narrow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.  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The steep valley sides mean that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soils are thin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, with limited water storage capacity when heavy rain comes.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The 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rock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 is old, hard sandstone which is impermeable.  The rivers here are naturally ‘</a:t>
            </a: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flashy</a:t>
            </a:r>
            <a:r>
              <a:rPr b="0" lang="en-US" sz="1600" spc="-1" strike="noStrike">
                <a:solidFill>
                  <a:srgbClr val="006699"/>
                </a:solidFill>
                <a:latin typeface="Comic Sans MS"/>
              </a:rPr>
              <a:t>’.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324000" y="765000"/>
            <a:ext cx="4390920" cy="2800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3635280" y="2708280"/>
            <a:ext cx="5267520" cy="3886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2257-D6A7-41F4-AF85-AAF8E9420B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first signs of danger came at 2 p.m. on 16th August, when cast iron manhole covers in the town’s streets began to shudder, indicating that forceful storm waters were gathering in the sewers beneath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By mid-afternoon, the Valency and Jordan had over-topped their. At 5 p.m. the Clovelly Clothing shop was dragged 50 metres away from its site by floodwater flowing down the main street before later collapsing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03640" y="3213000"/>
            <a:ext cx="3889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s evening fell, soaked locals and holidaymakers huddled together in the village sports hall for warmth while helicopter winches lifted stranded home-owners off the roofs of their own hous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384840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9DC4-D7B6-416D-A308-EE0306DA4D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Effects: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round 1000 residents and visitors are believed to have been affected in this devastating event. Miraculously, there were no fatalities, with only 1 reported casualty - a broken thumb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7 helicopters airlifted 100 people (including 6 firefighters) to safet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29 out of the 31 Cornwall County Fire Brigade stations were involved in the incident. They remained at Boscastle for 7 days, assisting in the clean-up operat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58 properties were flooded, 4 of which were demolished including the Visitor Centre. A further 40 properties were flooded in other village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4 footbridges along the Valency Valley were washed awa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84 wrecked cars were recovered from Boscastle’s harbour and streets, 32 could still be out at sea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infrastructure damage to buildings and services, could cost up to £2 mill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092A-E619-421E-AE6A-3FD56AACCF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environment Agency identified several major problem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Because the river valleys were narrow and the rock impermeable, these river valleys would have difficulty coping with flash rainfall – very heavy rain in a short tim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So measures needed to be taken to make it as easy for the water pass through as quickly as possible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E.g narrow stone bridges cut down the flow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s it the narrow bricked river banks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nd overhanging trees which could fall block the riv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213D-8F5B-4A51-97A2-C2B8FD9DA0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environment Agency identified several major problem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 carpark was right beside the river and just about level with it and was one of few places the water could go when it over flowed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The River Jordan, which passed under the town in a culvert before joining the Valency just above the harbour, was too small to take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6EF1-81AA-46A5-BFF6-EC427B3BB6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9600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9E2C-AFB4-4CB4-B479-DA19DBA2F2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at’s righ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there is not enough room in the river, then the water overflows the banks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ut what is the most usual reason why this happens – what event can occur to make the water in the river overflow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2F1C-BE84-4F23-8656-E6B254D119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198440"/>
            <a:ext cx="85341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AE21-9C60-4C7E-96E3-5A2FA14437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o what did they do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iden the river bed and the bridges to prevent material blocking them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iden and deepen the river bed to allow more space for extra water to flow through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ise the river bank for the new car park so it would not flood in futu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ild in features upstream from the town to catch debris brought downstream in a floo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ake sure that overhanging vegetation was either cut back or remov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1092-A54C-424E-B722-50E9655DCB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Now for the new footbridge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360" y="1052640"/>
            <a:ext cx="4608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Option A was the preferred one by the community as it was similar to the old one and in-keeping with surrounding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ut it would have to be double the width of the old one so stone was not suitable for an arch that size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ence the 2 modern designs were looked at. Which do you think would be best?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24000" y="907920"/>
            <a:ext cx="3981240" cy="261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50920" y="3933720"/>
            <a:ext cx="4244760" cy="2751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788000" y="3789360"/>
            <a:ext cx="4057560" cy="26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DA2D-A93F-450D-A9BA-5804FE6595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ight again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vy rain is the most usual event that happens right before a river floods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not all the rain that floods out of the river, fell in it from the sky in the first place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ost of the water in the river came from the land either side and flowed into the rive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4149720"/>
            <a:ext cx="3240360" cy="1511280"/>
          </a:xfrm>
          <a:prstGeom prst="cloudCallout">
            <a:avLst>
              <a:gd name="adj1" fmla="val -37504"/>
              <a:gd name="adj2" fmla="val 6995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at kind of rivers flood the most easil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716360" y="1125360"/>
            <a:ext cx="4010040" cy="25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63E1-407C-4318-9CBD-A4B96B4626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It is not really the rivers it is what goes on around them that matter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Remember most of the water lands on the sides of the riv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ow much of this ends up in the river depends on a number of thing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258120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342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teep or flatter valley sides?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635280" y="2276640"/>
            <a:ext cx="1224000" cy="931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076720" y="2276640"/>
            <a:ext cx="1122480" cy="115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92360" y="357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Grassy or wooded valley sides?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88000" y="2205000"/>
            <a:ext cx="1078200" cy="100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7812000" y="2205000"/>
            <a:ext cx="1117800" cy="1117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227640" y="342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cent weather: sunshine or rain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684360" y="4437000"/>
            <a:ext cx="1847880" cy="1390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2843280" y="4365720"/>
            <a:ext cx="1781280" cy="1662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595008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own or country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5292720" y="4221000"/>
            <a:ext cx="3063960" cy="1492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354560" y="5734080"/>
            <a:ext cx="46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ocks are like cheese – some have holes – some don’t. Which is better to have under you in a flood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EAF1-574B-458F-B605-B7E107B689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we decided that floods are more likely if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river is running through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steep valley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water more likely to run down hill rather than soak in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with grass rather than trees,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less of the water is trapped in the vegetatio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place where there had been recent rai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ground would be like a full up sponge that can take in no mor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A place with impermeable rock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ater cannot soak into it – it stays ion the surface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past a tow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concrete and tar stops the water soaking in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6ED3-5A11-4A72-AF40-1BCEB8B5DD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omic Sans MS"/>
              </a:rPr>
              <a:t>Where is Boscastle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2554200" cy="266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6016680" cy="47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9435-97AB-47A2-ADD2-B72B7C82D0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66"/>
                </a:solidFill>
                <a:latin typeface="Comic Sans MS"/>
              </a:rPr>
              <a:t>So what happened in Boscastle on 16th August 2004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84720" y="2707920"/>
            <a:ext cx="26640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t started off nice enough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5327640" cy="39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449C-B494-46F9-AEE1-93D2E9DD9A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But look what happened later than day!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6143760" cy="41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C950-BEC8-4627-96A9-FA3070A5C0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181560" cy="4124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FB6D-92C5-422A-92D7-6EDE207FFA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9:52:10Z</dcterms:created>
  <dc:creator>Lindy</dc:creator>
  <dc:description/>
  <dc:language>en-US</dc:language>
  <cp:lastModifiedBy>Lindy</cp:lastModifiedBy>
  <dcterms:modified xsi:type="dcterms:W3CDTF">2009-02-09T15:15:00Z</dcterms:modified>
  <cp:revision>9</cp:revision>
  <dc:subject/>
  <dc:title>Why do we get flood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